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CD09-7983-4AFC-B717-3881F3DE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FABE-CB28-44F5-92FC-0D980E38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F2A7-0F95-4771-A925-800C3C1F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C486B-72BC-4071-954E-C066710A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A5A4-2606-494A-949F-7E0EC6A2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F1D6-9E6B-4872-876C-AB00586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20E0-F97A-400F-B15B-F4940E96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6041-12DB-4848-9964-C90FCD1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FF35-7FCD-43E3-AE2D-658675A3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9E72-96E5-4E8E-B607-99F6310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9BCD-FB41-4186-9FBF-ED70E08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E385A-BBC0-44EE-9491-275F76D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18AC-CD26-4940-8F58-A74E2E3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A710-9CC2-4D0E-B803-82AFA639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A7DF-C3C9-40C6-AF76-9C71B0A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2387-2C0D-44D6-B62E-9B5170A7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0F9D-EA55-4CBD-8FD6-04D77C57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BAC1-29DD-4F69-A828-567363BA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7369-4F30-4B30-9235-B8F6AB1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6BE7-8CA5-4424-9825-9BD4A71B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FCF0-B2F9-4D48-AD79-7F712EC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56F1-1314-45FE-A306-F0AF8E3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7703-D288-4F74-9AFE-42F9B0E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9D0C-05D2-46F1-BA32-C193BD8D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4D0A-CEB5-44A1-810A-301844851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08D1-F9E3-4014-A39E-29843D6561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oss.com/personal/egypt/images/Valley%20of%20the%20Kings%20at%20sunrise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solarnavigator.net/geography/geography_images/Egypt_Cairo_evening_view_from_the_Tower_of_Cairo_October_2004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66680" y="685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auhaus 93"/>
              </a:rPr>
              <a:t>Egyp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1814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reated by Josh N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orks Cited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ezinearticles.com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touregypt.net.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egypt.com.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bc.co.uk. February 22, 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is.gvu.unu.edu. February 24, 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8120" y="22860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nd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6000"/>
          </a:blip>
          <a:srcRect l="3923" t="5001" r="3880" b="5001"/>
          <a:stretch/>
        </p:blipFill>
        <p:spPr>
          <a:xfrm>
            <a:off x="0" y="0"/>
            <a:ext cx="285120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10 Nice sandstone and granite landforms, Nuweiba, Egypt"/>
          <p:cNvPicPr/>
          <p:nvPr/>
        </p:nvPicPr>
        <p:blipFill>
          <a:blip r:embed="rId3"/>
          <a:stretch/>
        </p:blipFill>
        <p:spPr>
          <a:xfrm>
            <a:off x="6081840" y="2057400"/>
            <a:ext cx="3062160" cy="406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371600" y="3519360"/>
            <a:ext cx="4248000" cy="3338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5812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auhaus 93"/>
              </a:rPr>
              <a:t>Natural Resources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887480"/>
            <a:ext cx="4343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e Wax and H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a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Climate and Veget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m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Wild Cats and Pan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Jackal and Fo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ile Crocod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nakes (Cobras and oth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676520"/>
            <a:ext cx="3429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te Pa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press and E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pes and many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Fl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fa 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0880" y="15228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vernment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22320"/>
            <a:ext cx="7467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Dr. Ahmed Nazif is the Prime Min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Egypt is a democracy with a two house system like the U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Age expectancy is 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Population is over 74 mill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434340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00600" cy="335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auhaus 93"/>
              </a:rPr>
              <a:t>History and Current Event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80060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295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3, 2005- A secret door in an Egyptian tomb has led archeologists to find a mummy that was covered in beads that are intact after laying there for 2,500 year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29528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uary 23, 2009- A market in Cairo was bombed and left 20 people injured and 1 dead.  There are 3 suspects in custody no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257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517 Egypt was conquered by Sultan Selim I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Garamond"/>
              </a:rPr>
              <a:t>Economy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xtile factories, production of cement, iron and steel, chemicals, sugar, tobacco, and rubber produc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exports include oil, coal, petroleum, and chemical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 71.4% literacy r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urrency is the Egyptian pou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0" y="241920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Berlin Sans FB Demi"/>
              </a:rPr>
              <a:t>Culture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ome dress like us and others dress more like the people of the middle east with veils and long dress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staple food is bread along with dried fish, onions, radishes, and other vegetab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majority speech Arab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main religion is Muslim along with Islam and Christian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architecture is unique. Hence the pyramids and temples.  The average house is usually an apartment not too much different than that of the U.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laces to Vis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yrami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Cairo (Capital of Egypt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Abu Simbel 20ft high statues carved out of sandston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Karnak Tempels is a huge complex of templ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Valley of the Kings is 62 tombs located in the valley. 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41148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3657600" y="4647960"/>
            <a:ext cx="3733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676520"/>
            <a:ext cx="181908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1676520" y="2133360"/>
            <a:ext cx="3276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18Z</dcterms:created>
  <dc:creator>joshuadnell</dc:creator>
  <dc:description/>
  <dc:language>en-US</dc:language>
  <cp:lastModifiedBy>joshuadnell</cp:lastModifiedBy>
  <dcterms:modified xsi:type="dcterms:W3CDTF">2009-02-24T19:28:39Z</dcterms:modified>
  <cp:revision>9</cp:revision>
  <dc:subject/>
  <dc:title>Slide 1</dc:title>
</cp:coreProperties>
</file>